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8284-6AD8-4FD6-9A20-C83ECF8C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3BD1-4A02-45EE-8E3D-B2CF5BF8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A8E3-4ACE-423A-B9CE-08A542629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611E-F477-43A2-80BC-FDEB7FEF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F9FE-BD6D-4276-9CA7-29CBB703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B8CE-596A-44A5-939F-472D638F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BE2F-6881-4468-B58E-ED432F4D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8E1C-0894-4DFC-B2D0-97D8CD9D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7E06-1B3D-46BF-B7D8-ECD2BA8C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129F-A111-48FC-978B-4BAD080C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333A-33A7-487F-AA84-1080C795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D870-BE37-494F-888D-F2D0F19A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3F2E-AF31-4677-8DAA-293CBE83D4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43640549_ris.jpg"/>
          <p:cNvPicPr/>
          <p:nvPr/>
        </p:nvPicPr>
        <p:blipFill>
          <a:blip r:embed="rId1"/>
          <a:stretch/>
        </p:blipFill>
        <p:spPr>
          <a:xfrm>
            <a:off x="127080" y="1285920"/>
            <a:ext cx="7885080" cy="4857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5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капитал предприят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450720" y="554040"/>
            <a:ext cx="824256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териальные основные фонды (основные средства)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да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оруже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Жилищ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шины и оборудование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вентарь производственный и хозяйственны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кот рабочий, продуктивный и племенно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териальные основные фонды не включенные в другие группиров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материальные основные фонды (нематериальные активы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пьютерное программное обеспеч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зы данны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укоемкие промышленные технолог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е нематериальные основные фонды, являющиеся объектами интеллектуальной собственности, использование которых ограничено установленными на них правами вла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ТОДЫ ОЦЕНКИ ОСНОВНЫХ СРЕДСТ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вал 4"/>
          <p:cNvSpPr/>
          <p:nvPr/>
        </p:nvSpPr>
        <p:spPr>
          <a:xfrm>
            <a:off x="500040" y="1785960"/>
            <a:ext cx="3000240" cy="2143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 первоначальной стоим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Овал 5"/>
          <p:cNvSpPr/>
          <p:nvPr/>
        </p:nvSpPr>
        <p:spPr>
          <a:xfrm>
            <a:off x="3214800" y="3214800"/>
            <a:ext cx="2928960" cy="2143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 восстановительной стоим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6"/>
          <p:cNvSpPr/>
          <p:nvPr/>
        </p:nvSpPr>
        <p:spPr>
          <a:xfrm>
            <a:off x="6000840" y="4643280"/>
            <a:ext cx="2857320" cy="1928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 остаточной стоим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роме этого можно выделить два вида оценки основных средст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1. Ликвидационная стоимость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 это стоимость возможной реализации, выбывающих, полностью изношенных основных средст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2. Амортизируемая стоимость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 это стоимость, которую необходимо перенести на готовую продукцию. В Казахстанской экономической практике - это первоначальная (восстановительная) стоимость, в мировой практике - разность между первоначальной и ликвидационной стоимостью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РЕДНЕГОДОВАЯ СТОИМОСТЬ ОСНОВНЫХ СРЕДСТ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642960" y="2357280"/>
            <a:ext cx="7789680" cy="171468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642960" y="4500720"/>
            <a:ext cx="8143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мi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уммарная стоимость основных средств на первое число каждого месяца (с февраля по декабрь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э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число полных месяцев эксплуатации основных средст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пост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стоимость поступивших в течение года основных сред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выб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стоимость выбывших в течение года основных средст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1071720" y="714240"/>
            <a:ext cx="69674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износ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Физический износ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- это потеря стоимости в результате изменения физических, механических и т.п. свойств основных сред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Моральный износ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елится н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ральный износ I-го рода - это удешевление новых средств труда и потеря стоимости у действующих средств труд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ральный износ II-го рода - это потеря стоимости из-за появления более производительных и технически совершенных новых средств тру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Социальный износ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 потеря стоимости в результате того, что новые основные средства обеспечивают более высокий уровень социальных требований (комфортность, безопасность, эргономичность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Экологический износ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это потеря стоимости в результате ужесточения стандартов в области охраны окружающей сре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Амортизаци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процесс переноса стоимости основных средств на готовую продукцию и возмещение этой стоимости в процессе реализации продук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Амортизационные отчислени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денежное выражение размера амортизации, которое должно соответствовать степени износа основных средств. Амортизационные отчисления включаются в себестоимость продук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тоды начисления АМОРТ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1) линейный мето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способ равномерного, пропорционального списания стоимости основных средств), А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г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пределяется исходя из первоначальной стоимости объекта основных средств и нормой амортизации, исчисленной исходя из срока полезного использования этого объ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3000240" y="5072040"/>
            <a:ext cx="3143520" cy="1330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4" descr="image_thumb.png"/>
          <p:cNvPicPr/>
          <p:nvPr/>
        </p:nvPicPr>
        <p:blipFill>
          <a:blip r:embed="rId1"/>
          <a:stretch/>
        </p:blipFill>
        <p:spPr>
          <a:xfrm>
            <a:off x="4214880" y="2058840"/>
            <a:ext cx="4929120" cy="4799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капитал предприят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часть производительного капитала, который полностью и многократно принимает участие в производстве товара, переносит свою стоимость на новый продукт по частям, в течение ряда период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2) способ уменьшения остатк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А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г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пределяется, исходя из остаточной стоимости объекта основных средств на начало года, нормы амортизации, определенной на основе срока полезного использования и коэффициента ускор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коэффициент ускор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лин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норма амортизации, исчисленная при линейном способ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2500200" y="3643200"/>
            <a:ext cx="4070520" cy="8953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3) способ списания стоимости по сумме чисел лет срока полезного использования (куммулятивный способ)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Calibri"/>
              </a:rPr>
              <a:t>г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определяется, исходя из первоначальной стоимости и соотношения между n и S: n/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n - число лет до окончания нормативного срока эксплуатации объекта, включая год, за который начисляется амортизац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 - сумма чисел 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3214800" y="2714760"/>
            <a:ext cx="2428920" cy="11728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3000240" y="4929120"/>
            <a:ext cx="278604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4) способ списания стоимости пропорционально объему продукции (работ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ф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фактический объем продукции в отчетном перио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п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предполагаемый объем продукции за весь срок полезного исполь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3000240" y="1857240"/>
            <a:ext cx="3351240" cy="16430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средства учитываются ежемесячно в натуральных и стоимостных показателях. При этом стоимость основных средств на конец года определяется по балансовой формуле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642960" y="3857760"/>
            <a:ext cx="7764480" cy="9284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оказатели движения основных средств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Коэффициент поступления (ввода) основных средст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2571840" y="3214800"/>
            <a:ext cx="3879720" cy="1712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57120" y="356760"/>
            <a:ext cx="832968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 Коэффициент выбытия основных средств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Коэффициент обновления основных средств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2571840" y="1071720"/>
            <a:ext cx="3214440" cy="15001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2786040" y="4214880"/>
            <a:ext cx="3143160" cy="15256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Коэффициент ликвидации основных средст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Коэффициент прироста основных средст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643120" y="1714680"/>
            <a:ext cx="3044880" cy="12855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2214720" y="4786200"/>
            <a:ext cx="4458960" cy="13575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9"/>
          <p:cNvSpPr/>
          <p:nvPr/>
        </p:nvSpPr>
        <p:spPr>
          <a:xfrm>
            <a:off x="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оказатели степени годности основных средств: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коэффициент износа основных средст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пер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первоначальная стоим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2357280" y="2428920"/>
            <a:ext cx="3500640" cy="14922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0" y="98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2876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коэффициент годности основных средст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714760" y="1785960"/>
            <a:ext cx="3038400" cy="1449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2286000" y="4286160"/>
            <a:ext cx="4925880" cy="1000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оказатель фондоотдач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Q ­ - объем произведенной проду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 - средний показатель стоимости основных средст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2928960" y="2500200"/>
            <a:ext cx="3103560" cy="14414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0001pte8.jpeg"/>
          <p:cNvPicPr/>
          <p:nvPr/>
        </p:nvPicPr>
        <p:blipFill>
          <a:blip r:embed="rId1"/>
          <a:stretch/>
        </p:blipFill>
        <p:spPr>
          <a:xfrm>
            <a:off x="2286000" y="15001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реализации товара основной капитал по частям возвращается в денежной форме предпринимате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оказатель фондоемкос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1714680" y="2643120"/>
            <a:ext cx="5435280" cy="14288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астные показатели используются для оценки эффективности использования отдельных элементов основных средств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эффициент загрузки площад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эффициент сменности работы оборудов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эффициент интенсивной, экстенсивной и интегральной загрузки оборуд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хема 3" descr=""/>
          <p:cNvPicPr/>
          <p:nvPr/>
        </p:nvPicPr>
        <p:blipFill>
          <a:blip r:embed="rId1"/>
          <a:stretch/>
        </p:blipFill>
        <p:spPr>
          <a:xfrm>
            <a:off x="523800" y="324000"/>
            <a:ext cx="8407440" cy="6113160"/>
          </a:xfrm>
          <a:prstGeom prst="rect">
            <a:avLst/>
          </a:prstGeom>
          <a:ln w="0">
            <a:noFill/>
          </a:ln>
        </p:spPr>
      </p:pic>
      <p:cxnSp>
        <p:nvCxnSpPr>
          <p:cNvPr id="49" name="Прямая со стрелкой 5"/>
          <p:cNvCxnSpPr/>
          <p:nvPr/>
        </p:nvCxnSpPr>
        <p:spPr>
          <a:xfrm flipH="1">
            <a:off x="3141360" y="1428840"/>
            <a:ext cx="216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Прямая со стрелкой 7"/>
          <p:cNvCxnSpPr/>
          <p:nvPr/>
        </p:nvCxnSpPr>
        <p:spPr>
          <a:xfrm flipH="1">
            <a:off x="5928480" y="1428840"/>
            <a:ext cx="252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Прямая со стрелкой 9"/>
          <p:cNvCxnSpPr/>
          <p:nvPr/>
        </p:nvCxnSpPr>
        <p:spPr>
          <a:xfrm flipH="1">
            <a:off x="2141280" y="2500200"/>
            <a:ext cx="216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11"/>
          <p:cNvCxnSpPr/>
          <p:nvPr/>
        </p:nvCxnSpPr>
        <p:spPr>
          <a:xfrm flipH="1">
            <a:off x="6786360" y="2500200"/>
            <a:ext cx="216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1314272077_moneyok.jpg"/>
          <p:cNvPicPr/>
          <p:nvPr/>
        </p:nvPicPr>
        <p:blipFill>
          <a:blip r:embed="rId1"/>
          <a:stretch/>
        </p:blipFill>
        <p:spPr>
          <a:xfrm>
            <a:off x="1857240" y="1500120"/>
            <a:ext cx="7286760" cy="535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сновной капита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это денежные средства, вложенные в основные фонд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капитал меняет свою вещественную форму и проходит следующие стад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рование (денежная форма - основные фонды) - в реальные активы - здания, сооружения, машины и оборудование и пр., а не в финансовые активы - акции, облиг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о (материально - вещественная форма), потребление в виде амортизации. Процесс постепенного перенесения стоимости средств труда по мере их физического и морального износа на производимый с их помощью продукт; использование специальных денежных средств - амортизационных отчислений, включаемых в издержки производства и обращения, для простого и расширенного воспроизводства основных фонд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ещение: начисленная амортизация превращается в денежную форму (себестоимость, выручка). За счёт этих денег происходит вновь закупка оборуд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ОЙ КАПИТ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хема 7" descr=""/>
          <p:cNvPicPr/>
          <p:nvPr/>
        </p:nvPicPr>
        <p:blipFill>
          <a:blip r:embed="rId1"/>
          <a:stretch/>
        </p:blipFill>
        <p:spPr>
          <a:xfrm>
            <a:off x="566640" y="1206360"/>
            <a:ext cx="82962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1:08:09Z</dcterms:created>
  <dc:creator>SamLab.ws</dc:creator>
  <dc:description/>
  <dc:language>en-US</dc:language>
  <cp:lastModifiedBy>SamLab.ws</cp:lastModifiedBy>
  <dcterms:modified xsi:type="dcterms:W3CDTF">2012-01-24T16:29:25Z</dcterms:modified>
  <cp:revision>17</cp:revision>
  <dc:subject/>
  <dc:title>Основной капитал предприятия</dc:title>
</cp:coreProperties>
</file>